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86E-0FC9-4CF8-99A3-E27ADA39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746-9B1C-4376-A56A-2CFA7218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7BE-1FF0-41E4-B9A4-A75D650F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EC6-0F4E-4615-9D22-51D27E08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5CB6-F0A2-4453-B907-F4DA95A1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2EAA-AA1B-4F98-9BE4-57CA2EA1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7870-2F07-44A0-B836-B3477C2D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C2F4-59E6-419E-AA3F-32995112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B8D-1DCF-4655-A219-B1423E32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F29-DBED-4C2C-81C9-6F141975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75BD-0D58-4AE9-B524-BFF8FDDC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C96-42BF-46D3-BC85-DD9FE856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F29E-E8AB-4161-9B1A-404A0849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F6AE-B3E3-4950-AA9D-14C72F79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3C21-6F63-479B-9FAC-67964115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C770-5393-42D8-9987-A8824A3A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A59E-49ED-4513-BBCE-80607D26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41C-1E63-4EEE-B37A-DCE1C285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FF4-2D48-4AB8-8E75-2EAE34F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E61-5ACF-4E4B-B61B-06471306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927-AA49-48EE-B1DF-E910AB12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3BD-32B0-4E5B-8D2C-045D92E8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C35-53E5-4F8E-88E6-23CB7E6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1AE-D75D-4423-9528-09C42E5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E72C-E579-40DB-9B62-97FD15C81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6767-F5D3-4CCD-890B-78D66D855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705636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я</cp:lastModifiedBy>
  <dcterms:modified xsi:type="dcterms:W3CDTF">2007-04-12T19:52:34Z</dcterms:modified>
  <cp:revision>6</cp:revision>
  <dc:subject/>
  <dc:title>Пагубность вредных привычек</dc:title>
</cp:coreProperties>
</file>